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F9B44-20C3-435C-A1BB-865D85844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D9C56-D5A7-4563-A5B9-110937355D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ECE1B-D7FB-4557-A86B-C594D92CCD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869DB-58D0-42FB-87C0-D60B951983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B48A7-8968-4BD0-89AD-61DF53E213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0E77C-19A3-46D2-9CE1-E8444ABBC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A54AD-D392-4F22-B544-19BA5E5B20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431B-759E-4039-8F2C-46998FA67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32474-1D51-44B0-ACF3-600A353468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9F65A-BC52-4047-B7D3-48D0EF9361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D07-6306-47D2-A50B-EDE92F9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915-DCFE-490E-855F-B7067EBE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344-DAC0-4409-9A4D-292CD184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6EB-2A57-4013-824E-7A22F423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7F2-B5F5-4BF5-8EE0-4D384349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647-F466-4A7E-BD68-A71F11A8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D25-BDE9-4964-9F85-7F837E51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16B-96FD-4AE5-ACE5-BB22173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397-7D6B-406E-9610-BB639BD0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601-39F6-4471-B07E-621F8AB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8BF-EAD5-4A3E-82DC-57C644F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973-0DBC-4B90-AE9F-DD61D3D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4B562-37EA-4960-998D-142B5BF7E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336120" y="1643040"/>
            <a:ext cx="33796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27120" y="6154560"/>
            <a:ext cx="7737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494440" y="731880"/>
            <a:ext cx="50360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create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the ways of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2210040" y="808200"/>
            <a:ext cx="56336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thr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orld has ever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reasures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's no way to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You're w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494440" y="731880"/>
            <a:ext cx="50360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create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all the ways of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210040" y="808200"/>
            <a:ext cx="56336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thr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orld has ever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reasures of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's no way to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You're w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495520" y="538200"/>
            <a:ext cx="51274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id behind a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lived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jected and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2495520" y="538200"/>
            <a:ext cx="5127480" cy="35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ke a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mpled on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took the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thought of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Wade, Peter</cp:lastModifiedBy>
  <dcterms:modified xsi:type="dcterms:W3CDTF">2015-09-30T00:38:59Z</dcterms:modified>
  <cp:revision>4</cp:revision>
  <dc:subject/>
  <dc:title>Slide 1</dc:title>
</cp:coreProperties>
</file>